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776-975F-4AC6-B776-21F3BF27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282-992C-4E21-B916-621B85E3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11B-6E87-4485-AFA2-94BECE97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05A-286F-4391-8E26-117C029B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78B2-C599-4562-BDEE-8B3D22C4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66E5-A291-46E6-88DE-FA35437C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410D-21EF-40A5-BE68-F0427ACE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B857-4194-4A7F-9533-6684FB74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8B55-91EE-499F-8E5B-1D564758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32E3-BA50-42A6-A8EC-1412A98E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81AC-F056-484C-879B-ECBA8165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C31-27F0-4269-9756-182D0177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C163-C3C3-4A16-8581-E080C70A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D5B4-1DC5-444D-BD6F-930026C5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9F4A-3AB8-4DE3-A2A0-A5B4AE72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D155-6289-4309-8CBD-21D15E28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FFF7-C5CC-4527-9384-CAEEA30B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D63-746A-4BF6-9FAA-E01DC680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6C5-52F3-48C0-8022-AF063AA3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F99-4957-4848-AD29-F77419A8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85E-A20A-4596-9160-0A484504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38E-E3BD-4374-8358-D6131E91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897-A6E4-4DB7-8E00-0F7E4C06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BD4-B284-408F-8B32-72E931B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04EE-949A-468A-B3B4-C18C4566BF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9B31-9C0B-4001-A6AD-15EFF999F12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of District Property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y Third Pa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ileen 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eputy Direct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ransactions fall into two categor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ular rental ra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ntal rates charged pursuant to a rental rate schedule approved by the Boar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st incurred” reques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aiver of regular rental fees (and often all costs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enefit” to the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ppropriate custodial hours being alloca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as Tenant/License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s for the District to enter into agreements to lease property owned by third partie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assroom space for adult education or other District progra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easing &amp; Asset Management maintains the lease docum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ivic Center Perm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d by:  Civic Center Permit Offi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lifornia Education Code and the LAUSD Board of Education require that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ach and every public school facility be made available as a civic center to members of the community and non-profit community organization for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upervised recreational activit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eetings and public discussion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uring designated hours when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gular school activities are not disrupt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easing &amp; Asset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n a monthly basis, District receives several hundred requests for the use 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f its facilities (school sites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asing &amp; Asset Management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mary Types of Uses of District Property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lming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Joint Use Agree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ccess Permi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cense Agree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ivic Center Permi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il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d by: </a:t>
            </a:r>
            <a:br>
              <a:rPr sz="2800"/>
            </a:b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lmLA – District’s film coordinator vend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ports to Leasing &amp; Asset Managem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andles all requests for filming or filming related activity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rk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ater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hotograp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requests must be handled through Film L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oint Use Agre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-managed by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easing &amp; Asset Managem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chool Planning &amp; Design Depart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Joint use i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use of a school after hours by a non-District partner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overnmental agenc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ports organization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ivate ent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t U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actors to be evaluated in a proposed joint us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ill the partner be contributing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pital improvements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grammatic contribution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ill use be cost neutral to the Distric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ess Permits/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d by: Leasing &amp; Asset Manage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s by third parties or by the Distri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rious real estate transactions requiring an agreement to document the transaction and/or monitor compliance.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neighbor requests access onto the school to trim his trees or to fix an adjacent wal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chool requires access onto a neighbor’s property for school construc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naged by: 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 types of License/Lease Agree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strict as Landlord/Licens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strict as Tenant/License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as Landlord/Licenso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s for use of District property by third part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hort term - use for 30 days or l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arking for birthday parties, dance recitals, theatrical performances, booster club or PTA fund raiser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ong term basis  - use for over 30 day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eyond the Bell programs, church services, sports train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6:49:34Z</dcterms:created>
  <dc:creator>joyce izumi</dc:creator>
  <dc:description/>
  <dc:language>en-US</dc:language>
  <cp:lastModifiedBy>Janice Stearns</cp:lastModifiedBy>
  <dcterms:modified xsi:type="dcterms:W3CDTF">2009-04-16T20:12:34Z</dcterms:modified>
  <cp:revision>19</cp:revision>
  <dc:subject/>
  <dc:title>Use of District Property by Third Parties</dc:title>
</cp:coreProperties>
</file>